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4572000" cy="4572000"/>
  <p:notesSz cx="9785350" cy="1427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EEB-C235-4EA1-9ADE-2E627185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7536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849-D054-4596-BEC2-612CC3FC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7D6-6B95-4721-9C06-967B2C20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AC0-E01F-4CF3-8BA9-4CE0F45B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1F7-4482-436B-9C53-ECD05390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BBA-3DE2-4B99-B2CB-5436AF5A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19E-4FCF-4680-BFA1-5B5D55ED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F27-D312-43FC-B6A0-2CC79059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6080"/>
            <a:ext cx="388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D0C-62CC-49E5-A4A0-291186D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79C-26B3-4DA7-9EF0-4069B2E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E04-3CCE-4D12-A6A3-8F2D367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10F-6C7C-432E-993F-295D8BE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161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32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440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165200"/>
            <a:ext cx="95220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416520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4165200"/>
            <a:ext cx="95256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fld id="{F30F38B3-DC26-4010-86D8-6905886645C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200" y="76320"/>
            <a:ext cx="825480" cy="1143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762120" y="2895480"/>
            <a:ext cx="30859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Playbill"/>
              </a:rPr>
              <a:t>poudres &amp; grains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ISSN 1257 -39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114800"/>
            <a:ext cx="4495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ffffff"/>
                </a:solidFill>
                <a:latin typeface="Tahoma"/>
              </a:rPr>
              <a:t>Poudres &amp; grains </a:t>
            </a:r>
            <a:r>
              <a:rPr b="0" i="1" lang="fr-FR" sz="700" spc="-1" strike="noStrike">
                <a:solidFill>
                  <a:srgbClr val="ffffff"/>
                </a:solidFill>
                <a:latin typeface="Tahoma"/>
              </a:rPr>
              <a:t>est une publication centrée sur l ’Etude de la Micromécanique de milieux Granul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00" spc="-1" strike="noStrike">
                <a:solidFill>
                  <a:srgbClr val="ffffff"/>
                </a:solidFill>
                <a:latin typeface="Tahoma"/>
              </a:rPr>
              <a:t>Elles est protégée par les droits d ’auteur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036" b="1113"/>
          <a:stretch/>
        </p:blipFill>
        <p:spPr>
          <a:xfrm>
            <a:off x="533520" y="76320"/>
            <a:ext cx="3429000" cy="338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581280"/>
            <a:ext cx="3733920" cy="838440"/>
          </a:xfrm>
          <a:prstGeom prst="rect">
            <a:avLst/>
          </a:prstGeom>
          <a:solidFill>
            <a:srgbClr val="deec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Times New Roman"/>
              </a:rPr>
              <a:t>Poudres &amp; gr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Pierre Evesque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Editeur   Laboratoire de Mécanique: </a:t>
            </a:r>
            <a:r>
              <a:rPr b="0" lang="fr-FR" sz="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Sols-Structures-Matéria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Ecole centrale de Paris    92295 Châtenay-Malabry         FRANC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ff"/>
                </a:solidFill>
                <a:latin typeface="Wingdings"/>
                <a:ea typeface="Wingdings"/>
              </a:rPr>
              <a:t>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33 (0)1 41 13 12 18         Fax : 33 (0)1 41 13 14 4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e-mail : evesque@mssmat.ecp.f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7:39:25Z</dcterms:created>
  <dc:creator>Francis Armand</dc:creator>
  <dc:description/>
  <dc:language>en-US</dc:language>
  <cp:lastModifiedBy>evesque</cp:lastModifiedBy>
  <cp:lastPrinted>2002-10-16T14:34:13Z</cp:lastPrinted>
  <dcterms:modified xsi:type="dcterms:W3CDTF">2002-10-17T09:00:27Z</dcterms:modified>
  <cp:revision>5</cp:revision>
  <dc:subject/>
  <dc:title>Aucun titre de diapositive</dc:title>
</cp:coreProperties>
</file>