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4572000" cy="4572000"/>
  <p:notesSz cx="9785350" cy="1427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650-1F98-42CE-B4E8-364A27AE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38862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2753640"/>
            <a:ext cx="38862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103-4C3A-48F7-BD7A-50FD60CA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27536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27536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CBA-CA34-4B44-BAD8-98ED47E4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13208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13208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27536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27536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27536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600-4AB5-4B4A-81AB-F76CD740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320840"/>
            <a:ext cx="38862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406-33D0-4680-8E49-2D963F1A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388620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57D-255C-4B4D-86A4-42993D67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89612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1320840"/>
            <a:ext cx="189612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52E-BCC5-43F2-83E3-BFC97BEA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FB2-182B-4560-BC11-789DC22E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6080"/>
            <a:ext cx="388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BDC-B228-4F97-B7F3-CD00C519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1320840"/>
            <a:ext cx="189612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27536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BB5-6A4E-4F6E-83A9-2CFE0890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89612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27536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94D-E6E4-4570-8ED2-54050EF9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2753640"/>
            <a:ext cx="38862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2EA-6AEC-49C4-8111-C398E7D0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320840"/>
            <a:ext cx="388620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marL="195120" indent="-195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161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52320" indent="-129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914400" indent="-130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176480" indent="-1317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176480" indent="-1317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176480" indent="-1317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4165200"/>
            <a:ext cx="952200" cy="3049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Autofit/>
          </a:bodyPr>
          <a:lstStyle>
            <a:lvl1pPr indent="0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416520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Autofit/>
          </a:bodyPr>
          <a:lstStyle>
            <a:lvl1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4165200"/>
            <a:ext cx="952560" cy="3049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Autofit/>
          </a:bodyPr>
          <a:lstStyle>
            <a:lvl1pPr indent="0" algn="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fld id="{A9AF7F1D-2D53-4EAB-AA9D-712F43DBDD9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1200" y="76320"/>
            <a:ext cx="825480" cy="11430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762120" y="2895480"/>
            <a:ext cx="30859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Playbill"/>
              </a:rPr>
              <a:t>poudres &amp; grains</a:t>
            </a:r>
            <a:endParaRPr b="0" lang="en-US" sz="32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1932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ISSN 1257 -395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4114800"/>
            <a:ext cx="4495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ffffff"/>
                </a:solidFill>
                <a:latin typeface="Tahoma"/>
              </a:rPr>
              <a:t>Poudres &amp; grains </a:t>
            </a:r>
            <a:r>
              <a:rPr b="0" i="1" lang="fr-FR" sz="700" spc="-1" strike="noStrike">
                <a:solidFill>
                  <a:srgbClr val="ffffff"/>
                </a:solidFill>
                <a:latin typeface="Tahoma"/>
              </a:rPr>
              <a:t>est une publication centrée sur l ’Etude de la Micromécanique de milieux Granul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00" spc="-1" strike="noStrike">
                <a:solidFill>
                  <a:srgbClr val="ffffff"/>
                </a:solidFill>
                <a:latin typeface="Tahoma"/>
              </a:rPr>
              <a:t>Elles est protégée par les droits d ’auteur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2036" b="1113"/>
          <a:stretch/>
        </p:blipFill>
        <p:spPr>
          <a:xfrm>
            <a:off x="533520" y="76320"/>
            <a:ext cx="3429000" cy="3384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3581280"/>
            <a:ext cx="3733920" cy="838440"/>
          </a:xfrm>
          <a:prstGeom prst="rect">
            <a:avLst/>
          </a:prstGeom>
          <a:solidFill>
            <a:srgbClr val="deec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Times New Roman"/>
              </a:rPr>
              <a:t>Poudres &amp; gr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Pierre Evesque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Editeur   Laboratoire de Mécanique: </a:t>
            </a:r>
            <a:r>
              <a:rPr b="0" lang="fr-FR" sz="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Sols-Structures-Matériau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Ecole centrale de Paris    92295 Châtenay-Malabry         FRANC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ff"/>
                </a:solidFill>
                <a:latin typeface="Wingdings"/>
                <a:ea typeface="Wingdings"/>
              </a:rPr>
              <a:t>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33 (0)1 41 13 12 18         Fax : 33 (0)1 41 13 14 4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e-mail : evesque@mssmat.ecp.f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7:39:25Z</dcterms:created>
  <dc:creator>Francis Armand</dc:creator>
  <dc:description/>
  <dc:language>en-US</dc:language>
  <cp:lastModifiedBy>evesque</cp:lastModifiedBy>
  <cp:lastPrinted>2002-10-16T14:34:13Z</cp:lastPrinted>
  <dcterms:modified xsi:type="dcterms:W3CDTF">2002-10-17T09:00:27Z</dcterms:modified>
  <cp:revision>5</cp:revision>
  <dc:subject/>
  <dc:title>Aucun titre de diapositive</dc:title>
</cp:coreProperties>
</file>